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72925-80C8-4D3E-B9B4-2140198E1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411B7A-1EF1-4436-84D3-A3B65BD7B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F2C81-1AA6-4326-BD31-445DB87F54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8E72F-40D6-4FE4-8419-A578A0D6E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A13AFC-4F89-47E2-B971-E95830B200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0113A1-A9AE-4D92-A098-3D6578A0CD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71F001-E79A-459C-A873-A0C8C39BC6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52CA10-3EB1-45AC-B644-96D928C196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50268A-2FFC-4954-A1A9-A8969A543F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10097F-499E-42B7-81EF-AD932C0D63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AEC83-B00F-4AC5-A926-D2E877237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2721B6-E0DE-45D2-8917-3C6D58763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13F9D-A45F-4230-A76E-6763C8F9E4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92A432-5FB4-45AA-9B39-50E317B11D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73E6DE-FB08-440E-8315-2966BBBA51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8F0D1E-3ACA-4748-A16F-5E4A61F1EF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F2A295-373D-47A3-A0DD-23AD6FC387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0A599-7494-4CE5-98FA-82CCD979DE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5474A7-8C52-42E6-89E6-C713E68FC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805284-0C27-4433-A224-53BEBC1E3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F4F8D-210D-42AD-A649-6A295181CF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48D459-FEF5-40AC-AE5D-50553576D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C3617-050C-423F-B945-1E56C03CB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25EE97-402E-4579-A40C-852B6690CC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D3F73-F111-47C8-A5C3-95B58C2BD12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42F0F-BFF3-4FA9-A007-BF15499379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econd Outline Level</a:t>
            </a:r>
            <a:endParaRPr b="0" lang="en-US" sz="2700" spc="-1" strike="noStrike">
              <a:solidFill>
                <a:srgbClr val="000000"/>
              </a:solidFill>
              <a:latin typeface="Arial"/>
            </a:endParaRPr>
          </a:p>
          <a:p>
            <a:pPr lvl="2" marL="914400" algn="ctr">
              <a:spcBef>
                <a:spcPts val="575"/>
              </a:spcBef>
              <a:buClr>
                <a:srgbClr val="cc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000000"/>
                </a:solidFill>
                <a:latin typeface="Arial"/>
              </a:rPr>
              <a:t>Copyright Quiz</a:t>
            </a:r>
            <a:endParaRPr b="0" lang="en-US" sz="6600" spc="-1" strike="noStrike">
              <a:solidFill>
                <a:srgbClr val="000000"/>
              </a:solidFill>
              <a:latin typeface="Arial"/>
            </a:endParaRPr>
          </a:p>
        </p:txBody>
      </p:sp>
      <p:sp>
        <p:nvSpPr>
          <p:cNvPr id="96" name="PlaceHolder 2"/>
          <p:cNvSpPr>
            <a:spLocks noGrp="1"/>
          </p:cNvSpPr>
          <p:nvPr>
            <p:ph type="subTitle"/>
          </p:nvPr>
        </p:nvSpPr>
        <p:spPr>
          <a:xfrm>
            <a:off x="304920" y="3429000"/>
            <a:ext cx="8153280" cy="175248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ated by Hall Davidson</a:t>
            </a:r>
            <a:endParaRPr b="0" lang="en-US" sz="3200" spc="-1" strike="noStrike">
              <a:solidFill>
                <a:srgbClr val="000000"/>
              </a:solidFill>
              <a:latin typeface="Arial"/>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techlearning.com/db_area/archives/TL/2002/10/copyright_quiz.ph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A geography teacher has more students and computers than software. He uses a CD burner to make several copies of a copyright interactive CD-ROM so each student can use an individual copy in class.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False.</a:t>
            </a:r>
            <a:r>
              <a:rPr b="0" lang="en-US" sz="3600" spc="-1" strike="noStrike">
                <a:solidFill>
                  <a:srgbClr val="000000"/>
                </a:solidFill>
                <a:latin typeface="Arial"/>
              </a:rPr>
              <a:t> Just as with a print encyclopedia, one student at a time has access to a piece of software. The number of students who can use a software program simultaneously is restricted to the number of copies the school owns (but be sure to check out #2 above).</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7" name="PlaceHolder 2"/>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A middle school science class studying ocean ecosystems must gather material for multimedia projects. The teacher downloads pictures and information on marine life from various commercial and noncommercial sites to store in a folder for students to access.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True.</a:t>
            </a:r>
            <a:r>
              <a:rPr b="0" lang="en-US" sz="3600" spc="-1" strike="noStrike">
                <a:solidFill>
                  <a:srgbClr val="000000"/>
                </a:solidFill>
                <a:latin typeface="Arial"/>
              </a:rPr>
              <a:t> The Web may be mined for resources. Download away (of course, don't hack into subscription sites)! But remember: you can't put these projects back up on the Web without permission from the copyright holder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7. An elementary school designs a password-protected Web site for families and faculty only. It's OK for teachers to post student work there, even when it uses copyright material without permiss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7.  True.</a:t>
            </a:r>
            <a:r>
              <a:rPr b="0" lang="en-US" sz="4000" spc="-1" strike="noStrike">
                <a:solidFill>
                  <a:srgbClr val="000000"/>
                </a:solidFill>
                <a:latin typeface="Arial"/>
              </a:rPr>
              <a:t> If the site really is protected, then this is considered OK. The school should monitor its Web hits, though, and make sure the outside world isn't sneaking in.</a:t>
            </a:r>
            <a:endParaRPr b="0" lang="en-US" sz="4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8. A student film buff downloads a new release from a Taiwanese Web site to use for a humanities project. As long as the student gives credit to the sites from which he's downloaded material, this is covered under fair u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8.  False.</a:t>
            </a:r>
            <a:r>
              <a:rPr b="0" lang="en-US" sz="4000" spc="-1" strike="noStrike">
                <a:solidFill>
                  <a:srgbClr val="000000"/>
                </a:solidFill>
                <a:latin typeface="Arial"/>
              </a:rPr>
              <a:t> Educators may use "legitimately acquired" material without asking permission, but many file-sharing sites are suspect in this area. Use common sense to determine if those peer-to-peer resources are legitimate or pirated.</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9. A technology coordinator downloads audio clips from MP3.com to integrate into a curriculum project. This is fair us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9. True.</a:t>
            </a:r>
            <a:r>
              <a:rPr b="0" lang="en-US" sz="4000" spc="-1" strike="noStrike">
                <a:solidFill>
                  <a:srgbClr val="000000"/>
                </a:solidFill>
                <a:latin typeface="Arial"/>
              </a:rPr>
              <a:t> MP3.com pays for its archives, so the material there is legitimately acquired. Be wary of some of the other peer-to-peer sites, however (see #8).</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6840" y="1600200"/>
            <a:ext cx="8381880" cy="50292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 student snaps in half a CD-ROM the teacher really needed for her next class. The teacher decides to make a back-up copy of all her crucial disks so it never happens again. This is permissible.</a:t>
            </a:r>
            <a:endParaRPr b="0" lang="en-US" sz="4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0. A teacher gets clip art and music from popular file-sharing sites, then creates a lesson plan and posts it on the school Web site to share with other teachers. This is permissi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0.  False. </a:t>
            </a:r>
            <a:r>
              <a:rPr b="0" lang="en-US" sz="3600" spc="-1" strike="noStrike">
                <a:solidFill>
                  <a:srgbClr val="000000"/>
                </a:solidFill>
                <a:latin typeface="Arial"/>
              </a:rPr>
              <a:t> Legitimately acquired material can be used in classrooms. However, under the current law, no teacher can redistribute such material over the Net or any other medium. You can use it, but you can't spread it around</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1. A teacher videotapes a rerun of Frontier House, the PBS reality show that profiles three modern families living as homesteaders from the 1880s did. In class, students edit themselves "into" the frontier and make fun of the spoiled family from California.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1.  True.</a:t>
            </a:r>
            <a:r>
              <a:rPr b="0" lang="en-US" sz="4000" spc="-1" strike="noStrike">
                <a:solidFill>
                  <a:srgbClr val="000000"/>
                </a:solidFill>
                <a:latin typeface="Arial"/>
              </a:rPr>
              <a:t> Video can be pulled into multimedia projects. I live in California, too, so I share their pain.</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2. A student tries to digitize the shower scene from a rented copy of Psycho into a "History of Horror" report. Her computer won't do it. The movie happens to be on an NBC station that week, so the teacher tapes it and then digitizes it on the computer for her. This is fair use.</a:t>
            </a:r>
            <a:endParaRPr b="0" lang="en-US" sz="3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3" name="PlaceHolder 2"/>
          <p:cNvSpPr>
            <a:spLocks noGrp="1"/>
          </p:cNvSpPr>
          <p:nvPr>
            <p:ph/>
          </p:nvPr>
        </p:nvSpPr>
        <p:spPr>
          <a:xfrm>
            <a:off x="533520" y="1447920"/>
            <a:ext cx="8229600" cy="495288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2.  True.</a:t>
            </a:r>
            <a:r>
              <a:rPr b="0" lang="en-US" sz="3600" spc="-1" strike="noStrike">
                <a:solidFill>
                  <a:srgbClr val="000000"/>
                </a:solidFill>
                <a:latin typeface="Arial"/>
              </a:rPr>
              <a:t> Manufacturers are instituting blocking technology, authorized under the law, so newer material like VHS rentals and DVDs block educators from their constitutional right to use material for teaching. It's time to begin complaining. </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5"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3. A history class videotapes a Holocaust survivor who lives in the community. The students digitally compress the interview, and, with the interviewee's permission, post it on the Web. Another school discovers the interview online and uses it in their History Day project.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3.  True.</a:t>
            </a:r>
            <a:r>
              <a:rPr b="0" lang="en-US" sz="3600" spc="-1" strike="noStrike">
                <a:solidFill>
                  <a:srgbClr val="000000"/>
                </a:solidFill>
                <a:latin typeface="Arial"/>
              </a:rPr>
              <a:t> That's the other side of fair use. Just as you can use other people's intellectual property for educational purposes without permission, so can your own be us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4. On Back-to-School night, an elementary school offers child care for students' younger siblings. They put the kids in the library and show them Disney VHS tapes bought by the PTA. This is permissib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4.  False.</a:t>
            </a:r>
            <a:r>
              <a:rPr b="0" lang="en-US" sz="3200" spc="-1" strike="noStrike">
                <a:solidFill>
                  <a:srgbClr val="000000"/>
                </a:solidFill>
                <a:latin typeface="Arial"/>
              </a:rPr>
              <a:t> Video (like everything else) is not covered under fair use for entertainment or reward. The use described is entertainment, pure and simple. However, Disney will sell you a one-time license for $25 that makes this legal use. Call Disney at (818) 560-1000, ask for "Rights," and prepare to trade fax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 True.</a:t>
            </a:r>
            <a:r>
              <a:rPr b="0" lang="en-US" sz="4000" spc="-1" strike="noStrike">
                <a:solidFill>
                  <a:srgbClr val="000000"/>
                </a:solidFill>
                <a:latin typeface="Arial"/>
              </a:rPr>
              <a:t> Technically, this should be done in the library. The law allows archival copies, and, in some cases, lost, stolen, or damaged originals may be replaced with copies if the originals are unavailable or unreasonably pric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5. A teacher makes a compilation of movie clips from various VHS tapes to use in his classroom as lesson starters. This is covered under fair use.</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5.  False.</a:t>
            </a:r>
            <a:r>
              <a:rPr b="0" lang="en-US" sz="4000" spc="-1" strike="noStrike">
                <a:solidFill>
                  <a:srgbClr val="000000"/>
                </a:solidFill>
                <a:latin typeface="Arial"/>
              </a:rPr>
              <a:t> The current guidelines exclude the creation of video compilations. However, FilmClipsOnline.com offers film clips for free (the VHS tape on American values is particularly goo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6. At a local electronics show, a teacher buys a machine that defeats the copy protection on DVDs, CD-ROMs, and just about everything else. She lets her students use it so they can incorporate clips from rented DVDs into their film genre projects. This is fair us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59"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6.  True.</a:t>
            </a:r>
            <a:r>
              <a:rPr b="0" lang="en-US" sz="3600" spc="-1" strike="noStrike">
                <a:solidFill>
                  <a:srgbClr val="000000"/>
                </a:solidFill>
                <a:latin typeface="Arial"/>
              </a:rPr>
              <a:t> Manufacturing these machines is now prohibited (it previously wasn't). But teachers have the right to use material that is technologically blocked. Personally, as a teacher, I would absolutely use it to unlock content for students, but I would absolutely not use it to make copies at hom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7. A number of students take digital pictures of local streets and businesses for their Web projects. These are permissible to post onli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7.  True.</a:t>
            </a:r>
            <a:r>
              <a:rPr b="0" lang="en-US" sz="3600" spc="-1" strike="noStrike">
                <a:solidFill>
                  <a:srgbClr val="000000"/>
                </a:solidFill>
                <a:latin typeface="Arial"/>
              </a:rPr>
              <a:t> You may use the images in projects and post such images on the Web. Some sites, like Disneyland and architectural landmarks, may be considered copyright material, however, and might ask you to remove the image. People (not selectively chosen) in public places are as a rule OK in photographs</a:t>
            </a:r>
            <a:r>
              <a:rPr b="0" lang="en-US" sz="2800" spc="-1" strike="noStrike">
                <a:solidFill>
                  <a:srgbClr val="000000"/>
                </a:solidFill>
                <a:latin typeface="Arial"/>
              </a:rPr>
              <a:t>.</a:t>
            </a: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8. A student wants to play a clip of ethnic music to represent her family's country of origin. Her teacher has a CD that meets her needs. It is fair use for the student to copy and use the music in her project.</a:t>
            </a:r>
            <a:endParaRPr b="0" lang="en-US" sz="36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18.  True.</a:t>
            </a:r>
            <a:r>
              <a:rPr b="0" lang="en-US" sz="4000" spc="-1" strike="noStrike">
                <a:solidFill>
                  <a:srgbClr val="000000"/>
                </a:solidFill>
                <a:latin typeface="Arial"/>
              </a:rPr>
              <a:t> See the chart on page 32 for limitations on length. To my mind, the music guidelines need to be rethought and broadened. Until then, look for CDs that are created royalty-free.</a:t>
            </a:r>
            <a:endParaRPr b="0" lang="en-US" sz="40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9. A high school video class produces a DVD yearbook that includes the year's top ten music hits as background music. This is fair use.</a:t>
            </a:r>
            <a:endParaRPr b="0" lang="en-US" sz="40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1" name="PlaceHolder 2"/>
          <p:cNvSpPr>
            <a:spLocks noGrp="1"/>
          </p:cNvSpPr>
          <p:nvPr>
            <p:ph/>
          </p:nvPr>
        </p:nvSpPr>
        <p:spPr>
          <a:xfrm>
            <a:off x="457200" y="1600200"/>
            <a:ext cx="8229600" cy="5029200"/>
          </a:xfrm>
          <a:prstGeom prst="rect">
            <a:avLst/>
          </a:prstGeom>
          <a:noFill/>
          <a:ln w="0">
            <a:noFill/>
          </a:ln>
        </p:spPr>
        <p:txBody>
          <a:bodyPr lIns="90000" rIns="90000" tIns="46800" bIns="46800" anchor="t">
            <a:normAutofit/>
          </a:bodyPr>
          <a:p>
            <a:pPr marL="343080" indent="-343080">
              <a:lnSpc>
                <a:spcPct val="90000"/>
              </a:lnSpc>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19.  False.</a:t>
            </a:r>
            <a:r>
              <a:rPr b="0" lang="en-US" sz="3600" spc="-1" strike="noStrike">
                <a:solidFill>
                  <a:srgbClr val="000000"/>
                </a:solidFill>
                <a:latin typeface="Arial"/>
              </a:rPr>
              <a:t> This is not fair use. Yearbooks are not generally intended to be instructional. Plus, it's not permissible to use entire songs. If you're using pieces of songs and analyzing them as a reflection of the times students lived in, that's different.</a:t>
            </a:r>
            <a:endParaRPr b="0" lang="en-US" sz="36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1"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 A technology coordinator installs the one copy of Photoshop the school owns on a central server so students are able to access it from their classroom workstations. This is a violation of copyright law.</a:t>
            </a:r>
            <a:endParaRPr b="0" lang="en-US" sz="40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0. Last year, a school's science fair multimedia CD-ROM was so popular everyone wanted a copy of it. Everything in it was copied under fair use guidelines. It's permissible for the school to sell copies to recover the costs of reproduc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20.  False.</a:t>
            </a:r>
            <a:r>
              <a:rPr b="0" lang="en-US" sz="4000" spc="-1" strike="noStrike">
                <a:solidFill>
                  <a:srgbClr val="000000"/>
                </a:solidFill>
                <a:latin typeface="Arial"/>
              </a:rPr>
              <a:t> Fair use allows educational use of copyright material, true, but it does so only if there is no anticipation of wider distributio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a:t>
            </a:r>
            <a:r>
              <a:rPr b="1" lang="en-US" sz="3200" spc="-1" strike="noStrike">
                <a:solidFill>
                  <a:srgbClr val="000000"/>
                </a:solidFill>
                <a:latin typeface="Arial"/>
              </a:rPr>
              <a:t>False.</a:t>
            </a:r>
            <a:r>
              <a:rPr b="0" lang="en-US" sz="3200" spc="-1" strike="noStrike">
                <a:solidFill>
                  <a:srgbClr val="000000"/>
                </a:solidFill>
                <a:latin typeface="Arial"/>
              </a:rPr>
              <a:t> As long as one copy is not being used simultaneously, it's OK to distribute the software via the server. However, when districts or schools fail to monitor and enforce simultaneous use, they get in trouble. (On a network it's easy to track if a program is being used in more than one loc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5" name="PlaceHolder 2"/>
          <p:cNvSpPr>
            <a:spLocks noGrp="1"/>
          </p:cNvSpPr>
          <p:nvPr>
            <p:ph/>
          </p:nvPr>
        </p:nvSpPr>
        <p:spPr>
          <a:xfrm>
            <a:off x="533160" y="1523880"/>
            <a:ext cx="8381880" cy="5029200"/>
          </a:xfrm>
          <a:prstGeom prst="rect">
            <a:avLst/>
          </a:prstGeom>
          <a:noFill/>
          <a:ln w="0">
            <a:noFill/>
          </a:ln>
        </p:spPr>
        <p:txBody>
          <a:bodyPr lIns="90000" rIns="90000" tIns="46800" bIns="46800" anchor="t">
            <a:normAutofit/>
          </a:bodyPr>
          <a:p>
            <a:pPr marL="343080" indent="-343080">
              <a:lnSpc>
                <a:spcPct val="90000"/>
              </a:lnSpc>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A school has a site license for version 3.3 of a multimedia program. A teacher buys five copies of version 4.0, which is more powerful, and installs them on five workstations in the computer lab. But now when students at these workstations create a project and bring it back to their classrooms, the computers (running 3.3) won't read the work! To end the chaos, it's permissible to install 4.0 on all machines.</a:t>
            </a:r>
            <a:endParaRPr b="0" lang="en-US" sz="32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False.</a:t>
            </a:r>
            <a:r>
              <a:rPr b="0" lang="en-US" sz="3600" spc="-1" strike="noStrike">
                <a:solidFill>
                  <a:srgbClr val="000000"/>
                </a:solidFill>
                <a:latin typeface="Arial"/>
              </a:rPr>
              <a:t> Alas, the teacher bought a product that isn't backwards-compatible and should complain to the manufacturer. It's likely the law would deem it reasonable to install 3.3 in the new machines (after removing 4) until the issue is resolve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09" name="PlaceHolder 2"/>
          <p:cNvSpPr>
            <a:spLocks noGrp="1"/>
          </p:cNvSpPr>
          <p:nvPr>
            <p:ph/>
          </p:nvPr>
        </p:nvSpPr>
        <p:spPr>
          <a:xfrm>
            <a:off x="457200" y="1600200"/>
            <a:ext cx="8229600" cy="4952880"/>
          </a:xfrm>
          <a:prstGeom prst="rect">
            <a:avLst/>
          </a:prstGeom>
          <a:noFill/>
          <a:ln w="0">
            <a:noFill/>
          </a:ln>
        </p:spPr>
        <p:txBody>
          <a:bodyPr lIns="90000" rIns="90000" tIns="46800" bIns="46800" anchor="t">
            <a:normAutofit/>
          </a:bodyPr>
          <a:p>
            <a:pPr marL="343080" indent="-343080">
              <a:lnSpc>
                <a:spcPct val="90000"/>
              </a:lnSpc>
              <a:spcBef>
                <a:spcPts val="10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4. The state mandates technology proficiency for all high school students but adds no money to schools' software budgets. To ensure equity, public schools are allowed to buy what software they can afford and copy the rest.</a:t>
            </a:r>
            <a:endParaRPr b="0" lang="en-US" sz="4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01"/>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4.  False.</a:t>
            </a:r>
            <a:r>
              <a:rPr b="0" lang="en-US" sz="3600" spc="-1" strike="noStrike">
                <a:solidFill>
                  <a:srgbClr val="000000"/>
                </a:solidFill>
                <a:latin typeface="Arial"/>
              </a:rPr>
              <a:t> Some interpretations of the 11th Amendment of the Constitution suggest that state schools may in fact be exempt from copyright prosecutions. However, following the guidelines encourages software and hardware makers to keep making quality products for us to bu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02:56:26Z</dcterms:created>
  <dc:creator>Jane Bratton</dc:creator>
  <dc:description/>
  <dc:language>en-US</dc:language>
  <cp:lastModifiedBy>Jane Bratton</cp:lastModifiedBy>
  <dcterms:modified xsi:type="dcterms:W3CDTF">2008-06-13T03:51:53Z</dcterms:modified>
  <cp:revision>1</cp:revision>
  <dc:subject/>
  <dc:title>Copyright Quiz</dc:title>
</cp:coreProperties>
</file>